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B61-3675-4E92-89DE-1191284A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462-D8BE-40C4-AC64-4D25F9E5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E1F-F810-4BB8-B70A-4D2ACA71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3D0A-809A-4479-A569-80E84DD9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F59A-FE50-491E-9BD6-2F2CF23C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37F3-EEE3-459A-8C2A-52F26091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E3A4-8E0F-4187-BE71-D61099AD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4AFE-24B6-45F4-9CB3-B65F4FF2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E6E4-4B37-4FE6-AADB-B5672890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2E99-50AD-4619-96EA-70A67755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672F-0EE0-4308-9AB6-B69139E8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ED64-76CB-4931-9B66-0A738C53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9C98-828D-44BF-A53E-CBB247EB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0BC2-FCBC-451F-AF91-C4A118F5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7CB2-0626-4CA0-A142-CC12C6AC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2BC3-99CA-4F86-AA69-22EE9D5B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397E-FE53-4D43-8F0B-56455BC6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B10-A3C4-4958-8248-CBC73ACE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F75F-2DF0-4D52-8347-2C999475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CAE-E48A-455B-8CBF-84FC3352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74C-820D-45CB-BE1F-55C1246A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C2D3-A998-4C42-866A-93AA6D79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7A7-F3AD-46A1-A1FA-B343A1BD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860-43AD-406A-900A-AC3FA23C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15BB-824C-4093-AE1C-B7683F07E24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6F9E-58A9-40E7-9B16-DE27B33DD7D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FC’s propos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Yu 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yung R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ong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l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uan 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362320" y="228600"/>
            <a:ext cx="6400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Radius, find the h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H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π = 24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about 14.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ng the Total Surface area of the cylin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.3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πx 2) + (2.35x2xπx14.2) = 227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7.02 x 14 = Cost of the Metal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l sheet cost = $34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ng the Concrete vol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rete would have 0.5 meters added to the original container. the concrete’s radius = 2.85 height =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of concrete = 2.8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π x 0.2 = 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st of concrete = 5.1 x 640 = $32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TOTAL COST = $3421.6+$3264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$6685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86280" y="914400"/>
            <a:ext cx="4914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rain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we found out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bowl of rice contains 15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5g, a person eats about 3 bowls per day which makes it 3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30g per person pe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300 ±30g x200±5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itation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5640" y="114300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the past few weeks KFC had being aiming to design, and price, a water and grain storage facility for a village that has fifty fami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storage facility must be able to contain a two week supply of water and g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walls and roof of the facility will be made out of metal sheet that costs $14 per m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facility must be placed on a 20cm thick concrete floor. The concrete costs $640 per m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must make every effort to keep the cost as low as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many people’s in a family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had shown that the average population of a family is around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(two adults and two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50x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1=200±50 people are included in this 50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90920" y="1752480"/>
            <a:ext cx="56768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ater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What we found out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62320" y="6858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ach person needs abou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17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L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50 Families would need water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245700 L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ilet Flu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0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4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 Clot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6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 Dis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4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Li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nk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7 Li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linder with Radius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35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eigh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4.2 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cos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$6685.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943600" y="2819520"/>
          <a:ext cx="31240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19520"/>
                    <a:ext cx="31240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914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families would need 245700 liters for li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Liter is converted to 1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5700 Liters = 245.7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research, found that larger height makes the shape to be che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ase cannot be too small and just tall, because then it will collapse very eas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ing on which dimension is the best. (Longest he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vent the building from falling sideways, the diameter of the base has to be 3~4 times smaller than height maxim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438280" y="3049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cylinder = Radiu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π x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Height = 3 x Di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2R(Diameter) x 3 x π = 245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6R = 78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R = 13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3:35:03Z</dcterms:created>
  <dc:creator>Yuan ke</dc:creator>
  <dc:description/>
  <dc:language>en-US</dc:language>
  <cp:lastModifiedBy>성민 학교프로그램용</cp:lastModifiedBy>
  <dcterms:modified xsi:type="dcterms:W3CDTF">2008-12-01T10:34:4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